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853E-4CF4-4FC3-AEE3-1370C346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8DA-7C72-437F-B94B-02096507E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6A9A-1B74-4359-A29F-F1597F4E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BAFB-0AF5-4AC4-85E8-EE25144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654D-E951-4460-B4DD-9223B5C2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7678-6874-4417-8970-E074093D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B81-64CE-446C-9B88-1B443C0C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DC9A-0843-4B7F-BCF1-983DC605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8564-50C1-43E5-A7DE-8F8141D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21F-2ED6-4EF9-A2AC-9C876CD9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09BA-5F31-4DE4-97D4-1D743445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8F35-7B3B-4A5D-9BED-CDD3FF3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8DB-E090-434E-8A31-349C42BD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38EE-E7BB-4278-8DD4-F2EEE85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CD3A-D7A1-413C-B151-6FE66CA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C81-FD9B-4D98-9AB0-E26DD60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428F-34D2-4F31-911D-8755A2B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014F-8065-4803-A38C-685BB849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C76-C28C-4698-A6F0-77C691A6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FDC1-3BFB-42D8-B1A5-1F38717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C08D-FA8B-46D3-99A5-6A4D082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F7F3-5460-4954-9DCB-60C293B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10AE-754C-4B21-B7D2-B2A3FE1A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A331-1356-4E25-8823-56617A74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D7FF-D2B8-49FB-AB80-DCC7691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D1B0-718A-497A-BD53-58FA0E6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964-578B-4225-AD12-3AC9E7E69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9CE-4160-44E1-B78E-F0D165450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Hands-On Activity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89120" y="3695400"/>
            <a:ext cx="698328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Gummi Bear Genetic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nalyze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ing your recorded data, determine the inheritance patterns of the three phenotypes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ose one of the families (not B or C) and design a fourth generation, using any pair of non-matching parents you want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eate a diagram that shows how the traits are inherited in this generation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xtensions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1337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create their own ‘families’ to illustrate inheritance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investigate additional, more complex data 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799"/>
              </a:spcBef>
              <a:spcAft>
                <a:spcPts val="22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can learn about human models for these inheritance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ummi Bear Genetics </a:t>
            </a:r>
            <a:br>
              <a:rPr sz="6000"/>
            </a:br>
            <a:br>
              <a:rPr sz="6600"/>
            </a:b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ational standard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lecular basis of heredity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epts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ene allele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minant and recessive trait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ata analysi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nstruction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 not eat the Gummi bears!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eep the Gummi bears in each bag separate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turn the Gummi bears to their original bags when finished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at’s in the bag?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three families to work with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or each family, you have three generations.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loose Gummi bears in the large bags are the parents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One trait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wo phenotypes</a:t>
            </a: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llect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ork with one family at a time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rd the genders and colors for each generation in the family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99"/>
              </a:spcBef>
              <a:spcAft>
                <a:spcPts val="100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ample: 2 red males, 1 red female, etc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turn each generation of Gummi bears to their original bag when finished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peat for each family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nalyze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47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ing your recorded data, determine the inheritance patterns of the two phenotypes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spcAft>
                <a:spcPts val="2475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reate a diagram that shows how these traits are inherited in Family B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One trait </a:t>
            </a:r>
            <a:br>
              <a:rPr sz="72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ow many phenotypes?</a:t>
            </a: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llect Your Data Se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ork with one family at a time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rd the genders and colors for each generation in the family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ample: 1 green male, 3 green females, etc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turn each generation of Gummi bears to their original bag when finished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at for each family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23T16:39:32Z</dcterms:modified>
  <cp:revision>47</cp:revision>
  <dc:subject/>
  <dc:title>Safety in the Classroom</dc:title>
</cp:coreProperties>
</file>